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4148-93D3-4334-BC03-039ADD58A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1579-54A8-40FB-9E0F-263BF68CC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E31-73A4-4E32-BBB7-829782896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C9C2-4491-45AC-B436-2C886EA6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E026-361E-40C3-9222-178D0A6B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DAD5-73EC-465E-90F4-EAB28E75C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989F-9F57-46D8-9EA1-65EAE877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9BB7-5EC2-4CCC-AC92-DEA52C01E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D5DB-2888-446E-97CF-17617ADA8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9DC1-1FE2-4FD4-B54C-4CDB16447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E285-5ADC-4FC5-9121-EC970B9CE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3C7D-69E3-4B2D-9278-521BDF8B5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41EE-6DEA-4EB5-9D52-83F6CAD27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4B1-53C4-4F0D-BD1D-02FE2D8F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650-EE77-4537-9B4C-4D899E8E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053F-53A4-48DF-9FA1-1B8325B6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91B-49AD-4F5A-AC85-1485AACED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EA5-6929-4D0F-B0C4-8380C996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5C84-211A-447B-A180-84AA65E0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7C20-78B5-4067-BEB0-9DDE4C39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D8B2-12E1-439C-BB51-991E36EC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FCF-4679-4E8A-9889-F3480F70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D4F0-BD0A-499F-A093-6D4BC3E9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10CB-605C-4734-B5C5-1D269B23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620-03AC-4A98-8C00-EB932C03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B7FE-3EDB-4951-B7EE-DC24723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360A-07A5-4C33-86CF-9584E612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AAC8-5193-4BC1-A7C7-12560020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B777-7813-41AF-BB8E-EAB90F8E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9D17-DDC1-4C32-8C02-4239EB2F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A247-D58A-4C09-B8EA-4581C114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2EC-E206-4799-9881-44CED343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4A9-2489-42CB-AA2D-0CB1AFE0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0852-B9C1-4ABF-99E0-D03E4490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66E6-BCCF-4716-ABF4-90028137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2341-EEA6-41E6-A2BE-1F20BF62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89EC-0A4E-461C-AFFC-BD5A25BB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4641-573D-4066-BF46-86E529C7A7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8A3C-407E-44B5-92DC-FC92D2A8C9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7art-screensavers.com/screenshots/wild-animals/deer.jpg&amp;imgrefurl=http://www.7art-screensavers.com/wa.shtml&amp;h=600&amp;w=800&amp;sz=122&amp;tbnid=4adgBM_G3r8J:&amp;tbnh=106&amp;tbnw=141&amp;start=2&amp;prev=/images%3Fq%3Danimals%26hl%3Den%26lr%3D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0"/>
            <a:ext cx="6781680" cy="28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hapter 9</a:t>
            </a:r>
            <a:br>
              <a:rPr sz="4400"/>
            </a:b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Biological Productivity and Energy Flow</a:t>
            </a:r>
            <a:br>
              <a:rPr sz="4400"/>
            </a:b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nough Food be Produced for Africa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can we grow??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be our Carry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efficienc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efficient are orgs at using energy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very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le of thumb i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6" name="Picture 5" descr="heatflowimage"/>
          <p:cNvPicPr/>
          <p:nvPr/>
        </p:nvPicPr>
        <p:blipFill>
          <a:blip r:embed="rId1"/>
          <a:stretch/>
        </p:blipFill>
        <p:spPr>
          <a:xfrm>
            <a:off x="685800" y="304920"/>
            <a:ext cx="70866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Picture 5" descr="trophic_levels_individuals"/>
          <p:cNvPicPr/>
          <p:nvPr/>
        </p:nvPicPr>
        <p:blipFill>
          <a:blip r:embed="rId1"/>
          <a:stretch/>
        </p:blipFill>
        <p:spPr>
          <a:xfrm>
            <a:off x="304920" y="228600"/>
            <a:ext cx="4419360" cy="6248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Figure 1.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4648320" y="60199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ass 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228240"/>
            <a:ext cx="624852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tot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t of organic matter in an ecosystem =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ough grow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Towering Redwood Tree"/>
          <p:cNvPicPr/>
          <p:nvPr/>
        </p:nvPicPr>
        <p:blipFill>
          <a:blip r:embed="rId1"/>
          <a:stretch/>
        </p:blipFill>
        <p:spPr>
          <a:xfrm>
            <a:off x="5972040" y="1719360"/>
            <a:ext cx="2333880" cy="2128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de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72240" y="4392720"/>
            <a:ext cx="2685960" cy="20192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Dead Coyote"/>
          <p:cNvPicPr/>
          <p:nvPr/>
        </p:nvPicPr>
        <p:blipFill>
          <a:blip r:embed="rId4"/>
          <a:stretch/>
        </p:blipFill>
        <p:spPr>
          <a:xfrm>
            <a:off x="685800" y="3429000"/>
            <a:ext cx="4229280" cy="2895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685800" y="64771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ts, animals and dead are all biom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omass is measur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ncreases through grow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valanche%20scar%20spruce%20"/>
          <p:cNvPicPr/>
          <p:nvPr/>
        </p:nvPicPr>
        <p:blipFill>
          <a:blip r:embed="rId1"/>
          <a:stretch/>
        </p:blipFill>
        <p:spPr>
          <a:xfrm>
            <a:off x="4753080" y="1719360"/>
            <a:ext cx="382752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hemoautotroph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teria that us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inorganic compounds (like sulfu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to make their own food and t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Endeavour Hot Vent Photograph"/>
          <p:cNvPicPr/>
          <p:nvPr/>
        </p:nvPicPr>
        <p:blipFill>
          <a:blip r:embed="rId1"/>
          <a:stretch/>
        </p:blipFill>
        <p:spPr>
          <a:xfrm>
            <a:off x="533520" y="380988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bacterial mats near methane seep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9"/>
          <p:cNvSpPr/>
          <p:nvPr/>
        </p:nvSpPr>
        <p:spPr>
          <a:xfrm>
            <a:off x="5029200" y="51055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white-ish area is a bacterial m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eeding on methane from beneath the ocean flo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1143000" y="64911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thermal v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ergy flo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systems are all open to energy 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in          food chain           heat relea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not used is lost (as heat), 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tor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23623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4876920" y="2438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duke4"/>
          <p:cNvPicPr/>
          <p:nvPr/>
        </p:nvPicPr>
        <p:blipFill>
          <a:blip r:embed="rId1"/>
          <a:stretch/>
        </p:blipFill>
        <p:spPr>
          <a:xfrm>
            <a:off x="6019920" y="3505320"/>
            <a:ext cx="2895480" cy="299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catbig1"/>
          <p:cNvPicPr/>
          <p:nvPr/>
        </p:nvPicPr>
        <p:blipFill>
          <a:blip r:embed="rId2"/>
          <a:stretch/>
        </p:blipFill>
        <p:spPr>
          <a:xfrm>
            <a:off x="304920" y="35053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fat%20man"/>
          <p:cNvPicPr/>
          <p:nvPr/>
        </p:nvPicPr>
        <p:blipFill>
          <a:blip r:embed="rId3"/>
          <a:stretch/>
        </p:blipFill>
        <p:spPr>
          <a:xfrm>
            <a:off x="3276720" y="3429000"/>
            <a:ext cx="2514600" cy="2971800"/>
          </a:xfrm>
          <a:prstGeom prst="rect">
            <a:avLst/>
          </a:prstGeom>
          <a:ln w="0">
            <a:noFill/>
          </a:ln>
        </p:spPr>
      </p:pic>
      <p:sp>
        <p:nvSpPr>
          <p:cNvPr id="180" name="Line 17"/>
          <p:cNvSpPr/>
          <p:nvPr/>
        </p:nvSpPr>
        <p:spPr>
          <a:xfrm flipH="1">
            <a:off x="5257800" y="3200400"/>
            <a:ext cx="7632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5943600" y="3200400"/>
            <a:ext cx="990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9"/>
          <p:cNvSpPr/>
          <p:nvPr/>
        </p:nvSpPr>
        <p:spPr>
          <a:xfrm flipH="1">
            <a:off x="2666880" y="3200400"/>
            <a:ext cx="236232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533520" y="4114800"/>
            <a:ext cx="7924680" cy="16765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inetic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tential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ergy can move back and forth between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w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ropy-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the measure of disorder, wasted energy - becomes more random, can be sound or light but is mostly heat, everything always moves towards entrop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The laws of thermodynamic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1st Law – conservation of ener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2nd Law- entropy incr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energy moves to a less organized fo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living cells are holding off the forces of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tropy by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hanneling energ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609120"/>
            <a:ext cx="40388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ergy flow is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ne w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Picture: Whooping crane foodweb"/>
          <p:cNvPicPr/>
          <p:nvPr/>
        </p:nvPicPr>
        <p:blipFill>
          <a:blip r:embed="rId1"/>
          <a:stretch/>
        </p:blipFill>
        <p:spPr>
          <a:xfrm>
            <a:off x="3124080" y="762120"/>
            <a:ext cx="60199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4:15:28Z</dcterms:created>
  <dc:creator>tosborne</dc:creator>
  <dc:description/>
  <dc:language>en-US</dc:language>
  <cp:lastModifiedBy>Teri Osborne</cp:lastModifiedBy>
  <dcterms:modified xsi:type="dcterms:W3CDTF">2010-08-26T22:49:52Z</dcterms:modified>
  <cp:revision>19</cp:revision>
  <dc:subject/>
  <dc:title>Chapter 8 Biological Productivity and Energy Flow</dc:title>
</cp:coreProperties>
</file>